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37A-BDB9-4AE0-85A7-A3BBF6BA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20DF-EA73-4168-9DD7-EB7F8017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A59-56E9-49BE-95BA-38D225C9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6A05-6DCD-4A7F-A83C-715230F9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202-05EB-4131-976C-524CDE48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97E-FFF3-4391-92F3-E4E5AC9E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546E-1018-4DAA-98B2-6BA0D063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2EF-5951-44FA-AB3F-924A1613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175-9A5C-4339-BEDD-9ECE1F6B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C3B6-9F9F-4EF6-99F4-E5614EAE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6D6-CA50-416F-A43F-72A67B32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23B1-8AF9-494F-A192-3A0AE9A6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C65C-712F-4B25-92A7-8AC5CF994CD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1. október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568520" cy="1512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3280" y="5072040"/>
            <a:ext cx="81374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Hazai Tudományos Diákköri műhelyek 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rendezvényeik támogatása” című NTP-HHTDK-20-0044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755640" y="439560"/>
            <a:ext cx="2016000" cy="1089360"/>
          </a:xfrm>
          <a:prstGeom prst="rect">
            <a:avLst/>
          </a:prstGeom>
          <a:ln w="0">
            <a:noFill/>
          </a:ln>
        </p:spPr>
      </p:pic>
      <p:pic>
        <p:nvPicPr>
          <p:cNvPr id="47" name="Kép 9" descr="http://www.emet.gov.hu/_userfiles/hirek/NTP/emmi_logo.png"/>
          <p:cNvPicPr/>
          <p:nvPr/>
        </p:nvPicPr>
        <p:blipFill>
          <a:blip r:embed="rId3"/>
          <a:stretch/>
        </p:blipFill>
        <p:spPr>
          <a:xfrm>
            <a:off x="4140360" y="439560"/>
            <a:ext cx="1439640" cy="1089360"/>
          </a:xfrm>
          <a:prstGeom prst="rect">
            <a:avLst/>
          </a:prstGeom>
          <a:ln w="0">
            <a:noFill/>
          </a:ln>
        </p:spPr>
      </p:pic>
      <p:pic>
        <p:nvPicPr>
          <p:cNvPr id="48" name="Kép 10" descr="http://www.emet.gov.hu/_userfiles/hirek/NTP/ntp_72_rgb.jpg"/>
          <p:cNvPicPr/>
          <p:nvPr/>
        </p:nvPicPr>
        <p:blipFill>
          <a:blip r:embed="rId4"/>
          <a:stretch/>
        </p:blipFill>
        <p:spPr>
          <a:xfrm>
            <a:off x="60336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Kép 11" descr="http://www.emet.gov.hu/_userfiles/hatter_1/emet_logok/%C3%BAj%20logo/emet_logo_szines.jpg"/>
          <p:cNvPicPr/>
          <p:nvPr/>
        </p:nvPicPr>
        <p:blipFill>
          <a:blip r:embed="rId5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1-10-19T12:33:52Z</dcterms:modified>
  <cp:revision>11</cp:revision>
  <dc:subject/>
  <dc:title>DUNÁNTÚLI MANDULAFA</dc:title>
</cp:coreProperties>
</file>